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A99F-58F6-4405-9820-B8A62DD1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EC1C-D303-4256-8AEA-0424A998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3903-4A10-49C2-84FE-643ECC45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860E-55E9-43E3-976F-22E3E926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BA5-C567-4C57-B5D7-FE637323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711-F083-4A7D-A781-6DDA1447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81A-D6F6-4B1D-8205-6F958015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2885-3391-4CA9-BB98-E2CBE590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6BD8-B0BF-4567-ABA1-81080CA2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9A9-28B3-4E30-BEBC-42A380B6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6833-2703-49B5-A236-AF3163C0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986-99DA-4640-A8EC-A6F0CEB1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9AB2-30A7-45FE-BD21-B3526AC356B5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29200" y="-152280"/>
            <a:ext cx="3935520" cy="11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 يسوع بيدعي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ـمـا يـســوع بـيـدعـيــك               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لبي نـداءو على ط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حلى لــقــاء بـــلاقـيـــك                 تيصير فرحك ع ط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ـا تخاف كل قـلـبـك تـعـطيه        الـسـمـا هـديـه عم يعط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ــل لحظة بيندهـلـك بـقــول      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ت كمان فيـك تكون قدي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Christ_Coptic-Album.Com" descr="رب المجد يسوع المسيح"/>
          <p:cNvPicPr/>
          <p:nvPr/>
        </p:nvPicPr>
        <p:blipFill>
          <a:blip r:embed="rId3"/>
          <a:stretch/>
        </p:blipFill>
        <p:spPr>
          <a:xfrm>
            <a:off x="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724280" y="307800"/>
            <a:ext cx="4240440" cy="10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يسوع حاضر عــم يحك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يدي فــرصــة حــلـوي كت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خــلّـــي حــبــو يـكبر فيك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انـــت بـقـلـبـو تـصـير كـبــ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ـا تخاف كل قـلـبـك تـعـطيه        الـسـمـا هـديـه عم يعط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ــل لحظة بيندهـلـك بـقــول     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إنت كمان فيـك تكون قدي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Christ_Coptic-Album.Com" descr="رب المجد يسوع المسيح"/>
          <p:cNvPicPr/>
          <p:nvPr/>
        </p:nvPicPr>
        <p:blipFill>
          <a:blip r:embed="rId2"/>
          <a:stretch/>
        </p:blipFill>
        <p:spPr>
          <a:xfrm>
            <a:off x="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00600" y="307800"/>
            <a:ext cx="4164120" cy="10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يسوع إلـك أحـلــى رفيق  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تـمـشــي مــعــو بــالــحـيا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ـــوي الـهـدف والطري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ــوى بـيـعـطـيــك الــحـيا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ـا تخاف كل قـلـبـك تـعـطيه        الـسـمـا هـديـه عم يعط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ــل لحظة بيندهـلـك بـقــول     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إنت كمان فيـك تكون قدي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Christ_Coptic-Album.Com" descr="رب المجد يسوع المسيح"/>
          <p:cNvPicPr/>
          <p:nvPr/>
        </p:nvPicPr>
        <p:blipFill>
          <a:blip r:embed="rId2"/>
          <a:stretch/>
        </p:blipFill>
        <p:spPr>
          <a:xfrm>
            <a:off x="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76920" y="-152280"/>
            <a:ext cx="4087800" cy="10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ـمـا يـســوع بـيـدعـيــك               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لبي نـداءو على ط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حلى لــقــاء بـــلاقـيـــك                 تيصير فرحك ع ط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ـا تخاف كل قـلـبـك تـعـطيه        الـسـمـا هـديـه عم يعط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ــل لحظة بيندهـلـك بـقــول      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ت كمان فيـك تكون قدي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hrist_Coptic-Album.Com" descr="رب المجد يسوع المسيح"/>
          <p:cNvPicPr/>
          <p:nvPr/>
        </p:nvPicPr>
        <p:blipFill>
          <a:blip r:embed="rId2"/>
          <a:stretch/>
        </p:blipFill>
        <p:spPr>
          <a:xfrm>
            <a:off x="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1:48:05Z</dcterms:created>
  <dc:creator>user</dc:creator>
  <dc:description/>
  <dc:language>en-US</dc:language>
  <cp:lastModifiedBy>user</cp:lastModifiedBy>
  <dcterms:modified xsi:type="dcterms:W3CDTF">2006-05-05T05:42:29Z</dcterms:modified>
  <cp:revision>18</cp:revision>
  <dc:subject/>
  <dc:title>Slide 1</dc:title>
</cp:coreProperties>
</file>